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A4B1-ABA0-4C1F-95B5-85946579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BC6E-A549-4E4A-9309-ADF3AD8E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9F67-EBEF-44A0-BE41-9B67E1AC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856B-7B31-4401-8924-33A6774F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C1B-E238-4818-BD23-BB37A76E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2436-D8A0-464C-BB96-0E207F98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19B-360A-444C-AC31-E32BA87E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DCD-EF38-4C53-86AD-943D212D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744-3E48-491A-BFCC-C9B926D8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B6ED-6B71-47CB-A448-7DF21256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F00-7953-48EE-A24C-6B851406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0511-A4DD-43D9-B37A-B1A62999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858A-7AEE-4410-87C4-5ED2259E07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914400"/>
            <a:ext cx="73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的用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表示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过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某时发生的行为对主语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目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产生的影响。即用过去发生的某个行为来说明现在的某种情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 are good friends.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的情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knew him in 1997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过去的动作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 have known each other since 199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现在完成时把过去的动作和现在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联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来并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着眼于现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95440" y="1263600"/>
            <a:ext cx="810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rice ___,but I doubt whether it w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main 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went down    B.will go 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s gone down   D.was going 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63200" y="44956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表示已发生的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997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83808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the preparations for the task__,and we’re ready to st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completed     B.compl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d been compl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have been compl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65040" y="4057560"/>
            <a:ext cx="468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过去的动作“完成了准备工作”，对现在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影响是“现在已准备出发了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306864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1197000"/>
            <a:ext cx="7775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y dictionary ___. I have looked for it everywhere but still ___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lost; don’t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missing; don’t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lost; haven’t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missing; haven’t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869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1197000"/>
            <a:ext cx="772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Do you know our town at 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No, this is the first time I ___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       B. have b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came     D. am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3645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16000" y="549360"/>
            <a:ext cx="727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Where ___ the recorder? I can’t see it anyw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I ___ it right here, but now it’s g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id you put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you put;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you put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you putting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364500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3120" y="890640"/>
            <a:ext cx="8589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Who is Jerry Coop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____? I saw you shaking hands with him at the meet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on’t you me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n’t you m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idn’t you me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n’t you m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229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1197000"/>
            <a:ext cx="8120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You don’t need to describe her. I ___ her several ti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306864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765000"/>
            <a:ext cx="7724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CCTV </a:t>
            </a:r>
            <a:r>
              <a:rPr b="1" lang="en-US" sz="4800" spc="-1" strike="noStrike">
                <a:solidFill>
                  <a:srgbClr val="da0000"/>
                </a:solidFill>
                <a:latin typeface="Times New Roman"/>
              </a:rPr>
              <a:t>has been broadcast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English programs ever since 1977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11280" y="3357720"/>
            <a:ext cx="7056360" cy="1650240"/>
            <a:chOff x="611280" y="3357720"/>
            <a:chExt cx="7056360" cy="1650240"/>
          </a:xfrm>
        </p:grpSpPr>
        <p:sp>
          <p:nvSpPr>
            <p:cNvPr id="77" name=""/>
            <p:cNvSpPr/>
            <p:nvPr/>
          </p:nvSpPr>
          <p:spPr>
            <a:xfrm>
              <a:off x="611280" y="3789000"/>
              <a:ext cx="7056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19280" y="3357720"/>
              <a:ext cx="0" cy="79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19280" y="4149360"/>
              <a:ext cx="460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56360" y="3357720"/>
              <a:ext cx="0" cy="431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87640" y="436536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197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22120" y="4251240"/>
              <a:ext cx="109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no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692280"/>
            <a:ext cx="7993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表示一个事件在某个事件之前一直进行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用于表达事件的持续性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You look hot and tire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ave you been exercising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'm sorry I'm lat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ave you been waiting long?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23840" y="819000"/>
            <a:ext cx="7293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---Hi, Tracy, you look ti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--- I am tired. I ___ the living room all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ainted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ad pai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. have been pain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. have pai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50864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523880"/>
            <a:ext cx="723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e has been to Beij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已不在北京，从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结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上和现在联系起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e has been in Beijing for two yea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现在仍在北京，从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时间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上和现在联系起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6920" y="1197000"/>
            <a:ext cx="73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he ___ letters all morning and felt ti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been writing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wr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has writ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been 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4221000"/>
            <a:ext cx="649440" cy="72072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2200" y="961920"/>
            <a:ext cx="8156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-Isn’t it hard to drive downtown to wo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-Yes, that’s why I ____ to work by tr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been g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g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go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have g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429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549360"/>
            <a:ext cx="761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的三种基本用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未完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法。表示动作或状态开始于过去，一直延续到现在，可能继续发展，也可能刚刚结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been in the army for ten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studied English since 19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lived here all his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.be,live,stud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都是延续性动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常用的时间状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ince…,for…,in the past few years,so fa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ll his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46280" y="754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9051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反复性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法，表示过去到现在这段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内反复发生的动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been to the city twice this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often wondered where she gets her money all these d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种用法从时间上与现在发生了联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752480"/>
            <a:ext cx="69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完成性用法，表示动作或状态到说话时已经完成，通常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所产生的结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把过去的动作和状态和现在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联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来。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gone to Shangh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他已经去了上海。（结果：他已不在这儿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is not here now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440" y="907920"/>
            <a:ext cx="77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you make sure ___ the gold 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where Alice had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where had Alice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where Alice has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where has Alice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2760" y="4292640"/>
            <a:ext cx="49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使用现在完成时表示过去发生的“放”的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现在的影响，究竟金戒指现在“在哪里”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565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8280" y="609480"/>
            <a:ext cx="8385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I was at college I ___ three fore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nguages,but I ___ all except a few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spoke;had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spoke;have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d spoken;had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had spoken;have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8520" y="502920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但都忘了”是现在的情况，要用现在完成时，强调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2852640"/>
            <a:ext cx="576360" cy="57492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2120" y="882720"/>
            <a:ext cx="74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I’m sorry to keep you wai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Oh,not at all.I ___ here only a f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u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have been      B.had b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was                 D.will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59000" y="4191120"/>
            <a:ext cx="653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for) only a few minutes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说明几分钟前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了这里，一直到现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2637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1111320"/>
            <a:ext cx="77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___ the sports meet might be put of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Yes,it all depends on the wea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I’ve been told   B. I’ve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I’m told             D.I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0840" y="4114800"/>
            <a:ext cx="481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告知”是过去的事，</a:t>
            </a:r>
            <a:r>
              <a:rPr b="1" lang="zh-CN" sz="3600" spc="-1" strike="noStrike">
                <a:solidFill>
                  <a:srgbClr val="da0000"/>
                </a:solidFill>
                <a:latin typeface="Times New Roman"/>
              </a:rPr>
              <a:t>对现在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“我已知道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27664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1:03:07Z</dcterms:created>
  <dc:creator>zhao jinliang</dc:creator>
  <dc:description/>
  <dc:language>en-US</dc:language>
  <cp:lastModifiedBy>Legend User</cp:lastModifiedBy>
  <dcterms:modified xsi:type="dcterms:W3CDTF">2002-12-08T10:10:58Z</dcterms:modified>
  <cp:revision>19</cp:revision>
  <dc:subject/>
  <dc:title>PowerPoint 演示文稿</dc:title>
</cp:coreProperties>
</file>